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0.jpeg" ContentType="image/jpeg"/>
  <Override PartName="/ppt/media/image5.gif" ContentType="image/gif"/>
  <Override PartName="/ppt/media/image8.png" ContentType="image/png"/>
  <Override PartName="/ppt/media/image10.jpeg" ContentType="image/jpeg"/>
  <Override PartName="/ppt/media/image29.jpeg" ContentType="image/jpeg"/>
  <Override PartName="/ppt/media/image28.jpeg" ContentType="image/jpeg"/>
  <Override PartName="/ppt/media/image13.png" ContentType="image/png"/>
  <Override PartName="/ppt/media/image30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6.jpeg" ContentType="image/jpeg"/>
  <Override PartName="/ppt/media/type.wav" ContentType="audio/x-wav"/>
  <Override PartName="/ppt/media/image31.jpeg" ContentType="image/jpeg"/>
  <Override PartName="/ppt/media/image14.gif" ContentType="image/gif"/>
  <Override PartName="/ppt/media/image15.jpeg" ContentType="image/jpeg"/>
  <Override PartName="/ppt/media/image18.gif" ContentType="image/gif"/>
  <Override PartName="/ppt/media/chimes.wav" ContentType="audio/x-wav"/>
  <Override PartName="/ppt/media/image21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899-D688-4F54-9409-C939DE25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DC6-BC42-4041-8B7E-D69002D7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05CD0-F8BB-4572-AFE3-5D5C4606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C9F29-A1D2-4BBE-9655-56B6CCF3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956B6-9C93-41F2-A2A9-AAE67473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34842-BA3A-49EF-B722-B64C21EC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4612B-0A04-4670-89A4-AFFFDD83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E3C4C-97D8-4230-8409-0F39AA49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7E6D2-A9C6-4266-97D2-0F3F36DD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67ACC-E872-4669-84CD-55352424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3A72F-7256-491F-81DF-6B99104A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3B426-9F12-46A2-ADE3-01950544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042-E5DC-4BAD-91C9-AF0160AF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819D6-80D4-437C-B047-71D0D2E9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A74BE-7C6A-4923-95A5-A50B7916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212E8-0F70-4548-A116-45FA3EF4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9C3E4-77CC-4657-B045-7D3EE39E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2CFB3-6977-4957-97D3-23B02156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54FA7-7269-40E7-B372-7BC8666F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20B16-1056-498E-BCC3-9B7EAF8C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2767A-B941-4BB2-B58B-0CB6FCAA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CE995-82C4-47D1-9F7F-9AC632F5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E327C-9246-482F-BF24-95B56CFC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387-64C8-4FBA-9340-A7827A4A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8CB11-F819-43D3-94B3-F80378F0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BBD27-B7C2-4AD1-A4E3-9B484944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C680A-E626-4497-9726-76977886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656DA-66CD-417F-921D-5681CE82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40757-354B-4563-8933-9F52EB76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C6D84-6A0D-4EF3-AFB9-A8C67896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E3124-B2F0-4159-93DF-7316EBD9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C2B9D-41DE-4A4E-8B64-8BE5E124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DE27B-B3F2-455E-BC03-60C578FE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2FA53-9C96-4C8D-9413-2AC8C59C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3AB3-89A7-4B14-81E8-BF0C9456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59EF6-5A54-4859-8FDE-01C96FA3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3771C-1645-41AD-BC0E-FFBC6E80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20A96-B46A-463E-B183-973F0A2A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CA6D3-581B-4BE5-8F26-B564903E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C6400-E4BD-425D-94F3-1376D1B0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E8875-552A-470E-8AE6-EBE956AC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2DA53-B041-4D43-9C1C-DF45E21D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A3AF0-0DFB-4109-8139-350623D8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7C869-B916-4F21-A4CF-03F9127F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3B185-A686-4CBB-BB8D-6AA6716E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E80F-4478-4861-ABB9-E05FB533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4737E-4B5C-4905-ADC5-1048E5C2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F2500-6C42-48FA-99D0-8A85741A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312AC-F167-46FB-9EED-205A26E8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BF0E8-CE09-45DC-ADF0-ECAABF3A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3C2DD-134B-4C7C-BF88-BB15E48F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9BB6CB-EBA3-47C1-BECC-C2FDDD8E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B82EA-4204-480A-B77C-94772C59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55302-2B61-44F2-9700-32FDA53E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A9501C-E94F-4014-971F-58C867CC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3126EA-0C1F-480A-A769-42A9312C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C80D-45FF-4B26-A81A-FFE71C7E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EAAE6-F3B8-4878-8AEB-85BB126D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6BA0C8-6945-432E-ADC3-BA003A7C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047BB-1435-46C0-9919-41BCE95A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2563A-27CE-49F2-929E-EB27DD46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AB4DB-BF82-4A2B-98B1-F7ACD4E4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6B33A-3411-4339-B206-10513717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0290E-D5E1-4BF0-8E1F-53905B43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4ACA95-2BA8-44CF-8C6C-C429D453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6A483F-4F93-445C-8834-FAF5C8C4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06DC7F-D68C-4DEC-AADE-F8FC7193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E067-E811-4383-95E0-D7F6A745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FE07C-C644-4052-A028-E873CBEC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3DBD9B-24E6-4DEC-9EE8-5B62B0D2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B6BA0-A28D-4F15-9008-A6E2F256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A3FD22-9205-4B25-9CD9-DE683C69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997BAA-4E26-4776-927E-5BFF0B88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7C3BC4-3FD0-435F-8606-600B0D8E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E385C-DB60-4782-818B-F5C1D6FF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B1B52A-DB96-4FF8-BE87-CA5437A9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A8FFE-426A-4EA0-9FBE-8FA0700C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BB0AE2-CB3E-4D24-A57A-8EE6DCD3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14B3-6518-4A91-8BFB-046DBC94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1524EE-3E7D-4D6E-A75C-FF08513E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C25BC7-6625-45FD-8517-558C7EDE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9DB8EC-3DE4-45F6-9BA5-7409FC0C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A6864-95A7-404A-9556-2D679754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27E6B3-F837-4762-A240-40602B78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ECF819-B898-4223-BAD6-39778E46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10B8F0-C1C8-4F78-BB36-3644AE7D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C9D680-22D7-4C43-8CAE-1B23DA22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6A3B8-E1D7-47C7-886C-01ECB380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49FA8-E3C5-4CDC-BC23-F8B63E5E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654F-4990-4F4E-8F7B-81B2C5A1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989B84-9069-46DD-ACB3-0EC00C28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B0125B-30BE-4BE9-BD62-2AC75327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CC8F99-3268-4519-8F78-7AD2B873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2257F0-BF42-4715-ADE5-BB8C2D37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15B14C-6FA4-4142-AAE7-A12686DB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E819D1-EE20-4538-ACC9-B2084CE1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FBB6E-235D-4C52-8A66-309122B4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E7029C-C375-46BB-BF73-6905B1A3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1EDF7E-FC63-4C31-AB2E-51A92A79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EEE4F4-C6AA-42D1-B79B-D7D821D5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63B0-5016-42E1-97ED-190E197D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EB98C2-9F4A-4299-8207-DD7337B4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22E57E-DABB-4A18-AC67-6502D91D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CF9FFC-897D-44D8-9FBA-75B1C5B9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3E4FA3-81C8-4DCC-BA44-473992C1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BF1CBA-F0D7-4B3A-9673-87372628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D7750E-26A8-4B3A-AC40-4B10C839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7C37E1-7CFD-4B8B-8B8D-E3EC97E9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40AEB7-3346-45E2-86D2-5BD172F5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25F275-D190-45DF-ACF6-65A9E842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3ACC1B-EC4E-44E4-AA30-C39BEDBB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727D-D2EE-496D-B81A-2A107AF1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86BD-8797-4BCC-894F-E038005F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FC222E-C37D-4AB1-959F-9F8996F9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F4688A-A31B-4E7D-9AEE-995C16A2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29E50-DE60-4AB4-8843-C6F004BB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203D62-BD2E-48D7-8039-70B039BC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7ACF70-33C1-47D5-AC80-2A56980C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D537F3-3D96-4257-ACFA-2B8FD688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631BD9-4EAA-47DE-876C-D84414E1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031864-452A-4A21-A67A-73D1C7D0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8F7E88-37E2-4870-A223-3ADA9818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D8D9E7-DA2D-4853-A24D-170A79FA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313C-BA14-40E1-BD91-331D747D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C36F32-109E-4A0E-88C3-F456A411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C3F009-E425-4CDD-A276-1E41B259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0D635D-23F4-4F75-B869-43E3323C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4F510F-A604-4C63-BCB2-F270BD9C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32FBD1-5E05-4613-A950-E78243DD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E90AA-0D6C-4B3F-8368-4A7EDD73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709AD6-A2C3-47B4-827C-2DAA8174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4A43D3-F8C9-4747-8F5B-ED3ADEFF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4727BC-A99C-4202-801B-B3103297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79DA6D-CFF0-4D1B-B752-B9DE2FAE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900B-80B0-4499-8E89-4A4AC52D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A032D9-CFFA-47BD-8107-57C8E143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065390-43FB-48C3-AF1D-2A8DCA6A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EBBA41-F6DF-44A2-ADFE-5DE5762D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83D3B4-E577-4A65-A719-84C95EBE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7AF5DE-B0AE-409C-8DE5-F28679F4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6AB21D-EE69-4DA1-B87B-51C50470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666293-58F6-400F-AD75-75C95AC4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D777DC-E7CA-42EE-AE8C-1869A3C5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466FBF-DBD0-49CD-AA7B-792A0BF7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C04F55-C078-4751-A57A-96CC9AA9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7884-0E3A-4B1E-8097-C03C2611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19DA03-6B52-45F8-9E77-D21A3AF8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19EDE9-CAEE-438C-B1ED-FAB81D03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F202C5-0585-41BD-B804-DC9D5FB8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63C2C3-FD3B-4BC0-87D7-C8332486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9D336C-BEC8-4C2B-A22B-F54C0FF6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E35558-45FB-4141-97BA-D548C19E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85A627-CB34-4760-A916-425D9527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B8279F-D1FF-4B99-AA51-A991AB5C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99E898-8A39-4E02-A101-635FF780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8A8527-36FB-4446-9D1F-B4E08B15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84E6-713A-446D-82C8-4DC73391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396FED-7662-4AED-B102-47E75538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332AF8-94B3-40E7-B86F-5A0672DD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E90B28-2D0F-4136-BCF9-26131AE1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727C7C-F196-4AFD-B6EA-FCF5D3D7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9F234C-DA74-48F1-9ED9-93530A49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66E6EA-FFE6-491B-BC0F-62A291EB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A4656D-10E2-41A7-88B2-405F71D7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C74562-FDBB-4788-982C-C6904E1C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74DAD5-2C1F-456C-9B01-0C6E4B25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AB0950-D82E-46F2-A25C-9B9E8ABF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6D5A1-8F69-4C1F-B788-9C0B86E8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5B1A88-D415-4257-BF45-59568ADF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F49F9A-5A8A-4520-B75C-6C511618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5C5A8D-5BC0-4BA7-93E2-7C408EE0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D9381D-2933-4DC3-AD50-08B8712E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E8E799-6CEE-4639-8587-ED81D63E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C9D3DB-9172-41C0-BB9E-A7B06153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7D0FDF-68B4-4050-A1C7-B997C8E4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84F955-D763-406E-8A69-43D242A6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8505C8-8706-4BD7-A713-665A9A12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74BD6B-0FCD-44CC-9698-108104B1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0EBD9-1824-4B17-B3A4-00E9E6DE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EE88F2-F643-41E8-BF7A-028794FC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C01F01-650B-4105-927D-B5EBB4E3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1D353B-A3AB-4B0A-951B-71A7A1A0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DAA2A1-4F98-4E32-99E6-3348D9A5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167EAE-CE8C-4404-99F1-715CF0F8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D394BD-5C6C-4ED7-9DE2-9D399E30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01A1D8-7162-4C6C-80AB-C3E4F738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F714A9-76E6-4B8A-8072-49D4DA99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AA9B14-33BA-48C9-BB7A-B680FE9E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49356F-075F-4AA2-A786-4985E36F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B180-549B-4E50-9256-A8C500A6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9439CF-8F09-4138-8C28-07F12CBD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A00845-9575-497D-93B2-BB9DCE0F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143D9E-D077-4C89-8B91-F368BAEC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0E9B93-7D30-4168-9B6D-2AF1EF20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92FB0A-292D-494E-8CE9-ACE260D0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4149AE-64B3-4A44-8B15-641C5DFB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7F111E-CDFB-4EE8-81F5-5EA8907C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E2E710-0235-4257-990F-8FDB0B84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D73E3B-1CA5-4A85-9429-2D1668F2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1960BC-2FD1-4831-925A-432B3B91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4D7B5-A69C-4278-965F-6B6CCF74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097372-7A4A-4D47-BA2C-74770F16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4BE206-0664-4DD2-A176-6A412E13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C6A0E2-2CD9-495B-8E56-9A3B5B12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D18583-478C-48AE-8F81-5C04EAEE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F9AB3C-DA06-40DA-A094-8E37A5D7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7B4AED-A918-41AA-B658-2D5722F9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71188B-7F3C-46AE-823A-7731440C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F5381B-735D-4077-90B9-3ED5EC3E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A1D82B-F6AA-4079-A2CF-E254C6A9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14EE7-0FA0-4281-B299-8C73D778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FE1-8566-4A4A-8348-C82E978D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2A292-378C-486A-9737-516F9935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55F51-3D77-45BF-9895-E30B94B9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4629-8C8A-445A-8DAC-099C8689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48649-B2A5-4E38-9ACB-224156A9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096E3-3553-479A-94B0-71A984D1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6E463-E007-4EB1-A1C6-BF4DA31F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537FC-85AF-4134-A268-A4EDA358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50FDC-F27F-4D0E-9413-5C3440CE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F6DA5-97C2-48FF-908A-E696ADF2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92268-6DDA-45A6-946A-D3D045D8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444-A5BD-4BF8-8BE2-53FD9345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D7B61-DCB7-486C-A2BA-C25F2216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BA20C-5E65-48A5-8EDD-2604C3B7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F1389-5837-407B-909E-F9AFE8A7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B7216-FCC5-43F2-904C-13F35082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604C8-CE82-40FE-97DC-3AF935DC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59FB3-5D5B-49E5-8AD6-2F04F9CA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2314B-51EE-4F80-AE82-920910C8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9ED6D-B913-4CC1-B532-05B1595D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EF4E6-BC6B-44A8-A1CF-B2055426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E66E5-122D-4809-9717-DD665B95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24A-FFBB-4E7E-A0EF-E923549E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16BB5-081F-472C-81A0-12342836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959F6-8B1B-451A-9A56-A371E50D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E3F92-CE7D-4AF6-B95C-EAB754FF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0D761-7971-4B6A-A9AD-7CC1ACCA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2FA52-E57D-4CC5-86AC-28720620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85136-F36D-4129-8624-2A32E961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F4AB0-E1F1-4EDD-BB6A-4F3FDCDA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31765-62BC-4EB9-A421-E2BD9409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E0431-AA1F-4619-B4D1-8094B0A2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A3499-595C-4E3A-AE57-7FCEE8B5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C7EA-C062-4A31-A6C2-CA4E14C3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F27CA-4507-443D-9476-A7351996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B3DD2-4169-4FDB-B12B-BC83C7BD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F9DD9-AD78-49C6-89D2-BAD4E264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76252-40DD-43FE-A109-5C5DCBA1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8F16E-6E17-4893-A56A-A4E61423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8413E-1A28-498D-AC3F-10068A35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D68BB-0BEB-4B37-958B-F69EC98E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75BCE-DC00-44CE-8AF1-F65E850B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BF5C8-6477-47BA-B517-FD4E8DFF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C1BBF-2D4A-4B2C-BAC4-9816BD05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BFCA-E6D2-43A8-A9FA-51F400D1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A9C93-862F-4E00-881F-456C4DF8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64AAD-2AF4-4B06-8CB6-9AF1E9AA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F0E1C-129B-4A24-B84F-6F361FE3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FE481-0ACC-4DAC-B524-E20AAC20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D86DC-88E0-4897-8EFD-3EF21870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EC137-EBEA-4FAF-B928-25B40DEA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45176-25DC-4689-8C8A-5FEBF3E3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6F744-CD3B-4EBC-8B34-673D356C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73BBD-2034-4095-A830-F0625010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14DD9-1CBB-42E3-A8BA-BE50FDF5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46AF-7DC8-4EA9-AD24-600F28BE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143E8-94BD-440D-842D-6FB55568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8B9B4-8240-463F-81AE-BC1D976F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697BE-B6D9-4E46-BF99-61894464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45C44-7934-454E-87B4-E1AC0225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DBAF2-106F-4E5B-88E6-2ACB43ED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A42F6-8C0E-4191-8443-5ED5579E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3253D-1879-4634-8C6D-2E20C5E2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4B2EC-5D27-4C63-8BF4-6FE91154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4B4FF-A82E-44AD-B90A-FE113BF7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A0A99-64D8-4D8C-8CEF-98BE0A20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78D-8C0A-4566-867F-A89A5A10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F4E9C-7550-4994-8548-044FF58B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F0C20-88FB-4BD4-85C5-037C7E93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709DB-9993-4973-9BFF-7F638E11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207A9-F889-4624-A988-D3E5DB2C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0DE99-8262-4080-86F5-546E22BB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7B235-E851-4A16-B135-6F6BFF06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32465-1578-40E5-949B-82792757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78036-8AD0-4497-AD90-8B42C5D0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26962-BE36-40E4-B5BE-A7506406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A427D-0ABC-45E5-B838-C95199F2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D475-4BAB-4A6D-BF5D-C3B9B739B284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91C9-12B5-482E-A797-BCCC80930D4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9747-21A3-4160-88BC-1EEAFCB8E642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31F3-A370-46F1-A678-0A26F523ACD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188F-051B-4432-A262-910AA0DE761F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FEB0-F1F5-417B-B67A-0AB41EA53FB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7CD2-34F8-4B9C-98C7-BBFFD8BE0C0F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F6D8-0B9A-4B51-B9B3-CB97802B135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70DB-C39E-441B-881F-D4EC8CE1A626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1BF9-1584-44FE-BB90-2D8D243377A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55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7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8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0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2518-11BF-4F22-9BB6-87425CCFF4C9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2859-A523-4F3D-A9FB-F0FEB5935A3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D75B-AEF5-4165-B787-E13427DFFC63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517E-B688-43F7-8B89-4BB656BCDED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327A-4274-49DD-993F-759F3A36E54C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3201-AF68-4ABC-9459-6BA6CD50D23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3B75-6052-4CD9-8D8E-F06F22C8088A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74A6-20D0-4C44-9775-557F9A39749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24C7-02AB-48B6-98CA-4B6DBCEFA742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C226-B397-4FF9-9198-F254EB3ED57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CFC2-EE10-4E0B-A1E1-2B264FAE723D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C9C5-9BD1-4D2A-B8F5-014BA2021BB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50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DF89-BAF0-4A43-9FC6-A7ABED569585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69C5-C648-46AB-8532-297585BFEA7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5CE1-5FAE-4D84-B030-E3ADD65494DA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A034-0802-48CB-91E7-2D70B0B5338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9412-CBBE-49F2-BE7A-3FA047E8D6E3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3BF7-A13C-431B-9FFB-8A8DEABAB4D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8E43-404C-4980-BC82-8F8021B7766D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691D-F5B3-4BDA-B318-7247D6E32A4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EA8A-F694-4807-B863-B189BBB434FB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E4B5-1D89-41DB-8F92-AD1AA9A9F70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7BAB-9F79-4088-BDF3-255570524E8B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E1DE-07A5-438A-8638-A2C9F8A9235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7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1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2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FE8C-D04B-40AF-A6AB-BDD8C6F2C5FA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49D2-6B3E-4076-A8B2-F543963D111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F721-66C0-452B-8D84-77F7EAC39B98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5DD9-F90D-4F75-91B5-7620084CE48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2D35-5A79-46AC-AE68-2C7E70F02C64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5BBD-D9BD-4BE7-A145-49398964F29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ED56-A642-4C9F-BB2E-D599EE2AC82B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FA96-9CF9-4D24-BD01-D1B6517EEC5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1E60-C178-4916-8B13-C48BB82DDD40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0753-B92A-4EAA-9FC8-10B94DC7068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8067-AE5A-41F6-B979-9B38529170E1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68B5-7723-4ECE-9E15-C75B34CCC4E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A507-87B2-4B49-99BD-4F9838ABAFD9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578C-B408-4E5F-98A0-5673D260DFE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hyperlink" Target="http://image.baidu.com/i?ct=503316480&amp;z=0&amp;tn=baiduimagedetail&amp;word=%BA%FB%B5%FB%B6%AF&#812;&#892;&#428;&amp;in=5690&amp;cl=2&amp;lm=-1&amp;pn=251&amp;rn=1&amp;di=13377853320&amp;ln=909&amp;fr=&amp;fmq=&amp;ic=&amp;s=&amp;se=&amp;sme=0&amp;tab=&amp;width=&amp;height=&amp;face=&amp;is=&amp;istype=2" TargetMode="External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&#1127;%C9%FA%BB%AD%CF%C4%CC%EC&amp;in=30227&amp;cl=2&amp;lm=-1&amp;pn=42&amp;rn=1&amp;di=14909426340&amp;ln=2000&amp;fr=&amp;fmq=&amp;ic=0&amp;s=0&amp;se=1&amp;sme=0&amp;tab=&amp;width=&amp;height=&amp;face=0&amp;is=&amp;istype=2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WordArt 2"/>
          <p:cNvSpPr txBox="1"/>
          <p:nvPr/>
        </p:nvSpPr>
        <p:spPr>
          <a:xfrm>
            <a:off x="1403280" y="1268280"/>
            <a:ext cx="5905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uFillTx/>
                <a:latin typeface="微软雅黑"/>
              </a:rPr>
              <a:t>夏天里的成长</a:t>
            </a:r>
            <a:endParaRPr b="1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uFillTx/>
              <a:latin typeface="微软雅黑"/>
              <a:ea typeface="微软雅黑"/>
            </a:endParaRPr>
          </a:p>
        </p:txBody>
      </p:sp>
      <p:pic>
        <p:nvPicPr>
          <p:cNvPr id="1013" name="Picture 3" descr="butterfly-20pink"/>
          <p:cNvPicPr/>
          <p:nvPr/>
        </p:nvPicPr>
        <p:blipFill>
          <a:blip r:embed="rId1"/>
          <a:stretch/>
        </p:blipFill>
        <p:spPr>
          <a:xfrm rot="21473400">
            <a:off x="1123560" y="566856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4" descr="butterfly"/>
          <p:cNvPicPr/>
          <p:nvPr/>
        </p:nvPicPr>
        <p:blipFill>
          <a:blip r:embed="rId2"/>
          <a:stretch/>
        </p:blipFill>
        <p:spPr>
          <a:xfrm rot="20386200">
            <a:off x="7556400" y="405576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butterfly-20green"/>
          <p:cNvPicPr/>
          <p:nvPr/>
        </p:nvPicPr>
        <p:blipFill>
          <a:blip r:embed="rId3"/>
          <a:stretch/>
        </p:blipFill>
        <p:spPr>
          <a:xfrm>
            <a:off x="3357720" y="39290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6" descr="butterfly-20pink"/>
          <p:cNvPicPr/>
          <p:nvPr/>
        </p:nvPicPr>
        <p:blipFill>
          <a:blip r:embed="rId4"/>
          <a:stretch/>
        </p:blipFill>
        <p:spPr>
          <a:xfrm rot="21473400">
            <a:off x="1292040" y="3794040"/>
            <a:ext cx="396720" cy="3970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7" descr="butterfly"/>
          <p:cNvPicPr/>
          <p:nvPr/>
        </p:nvPicPr>
        <p:blipFill>
          <a:blip r:embed="rId5"/>
          <a:stretch/>
        </p:blipFill>
        <p:spPr>
          <a:xfrm rot="20386200">
            <a:off x="7375680" y="5583240"/>
            <a:ext cx="469800" cy="46980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8" descr="butterfly-20green"/>
          <p:cNvPicPr/>
          <p:nvPr/>
        </p:nvPicPr>
        <p:blipFill>
          <a:blip r:embed="rId6"/>
          <a:stretch/>
        </p:blipFill>
        <p:spPr>
          <a:xfrm flipH="1" rot="6016200">
            <a:off x="541080" y="-861480"/>
            <a:ext cx="311040" cy="3110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9" descr="u=2018213558,3546657386&amp;fm=15&amp;gp=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61080" y="6021360"/>
            <a:ext cx="647640" cy="749160"/>
          </a:xfrm>
          <a:prstGeom prst="rect">
            <a:avLst/>
          </a:prstGeom>
          <a:ln w="0">
            <a:noFill/>
          </a:ln>
        </p:spPr>
      </p:pic>
      <p:sp>
        <p:nvSpPr>
          <p:cNvPr id="1020" name="Oval 10"/>
          <p:cNvSpPr/>
          <p:nvPr/>
        </p:nvSpPr>
        <p:spPr>
          <a:xfrm>
            <a:off x="7093080" y="-1365120"/>
            <a:ext cx="3743280" cy="342576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5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4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7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5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4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6" presetSubtype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" dur="2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39 -0.02222 0.00521 -0.04421 0.00625 -0.06667 C 0.00816 -0.10694 0.00469 -0.14769 0.00938 -0.1875 C 0.01111 -0.20278 0.04063 -0.20833 0.04063 -0.20833 C 0.05208 -0.20694 0.06372 -0.20694 0.075 -0.20417 C 0.08142 -0.20255 0.0875 -0.19861 0.09375 -0.19583 C 0.09688 -0.19444 0.10313 -0.19167 0.10313 -0.19167 C 0.10625 -0.1875 0.11007 -0.18403 0.1125 -0.17917 C 0.11875 -0.16667 0.11198 -0.14884 0.12813 -0.14167 C 0.14149 -0.13565 0.13438 -0.13866 0.15 -0.13333 C 0.15938 -0.125 0.16875 -0.12083 0.17813 -0.1125 C 0.20833 -0.11389 0.23872 -0.11296 0.26875 -0.11667 C 0.27344 -0.11713 0.27726 -0.12176 0.28125 -0.125 C 0.30469 -0.14375 0.32865 -0.16968 0.34375 -0.2 C 0.34045 -0.23588 0.33976 -0.26181 0.31563 -0.28333 C 0.30469 -0.29306 0.29635 -0.30185 0.28438 -0.30833 C 0.2783 -0.31157 0.26563 -0.31667 0.26563 -0.31667 C 0.24792 -0.31528 0.23003 -0.31551 0.2125 -0.3125 C 0.2059 -0.31134 0.2 -0.30694 0.19375 -0.30417 C 0.18663 -0.30093 0.175 -0.2875 0.175 -0.2875 C 0.16719 -0.25648 0.18142 -0.2412 0.19375 -0.21667 C 0.1974 -0.20926 0.2125 -0.20833 0.2125 -0.20833 C 0.27691 -0.21088 0.3092 -0.20718 0.3625 -0.225 C 0.3849 -0.24491 0.37951 -0.23194 0.38438 -0.25833 C 0.38611 -0.29514 0.3816 -0.33634 0.40625 -0.35833 C 0.41563 -0.37708 0.42222 -0.40046 0.43438 -0.41667 C 0.44253 -0.42755 0.45503 -0.42986 0.46563 -0.43333 C 0.48438 -0.43194 0.5033 -0.43264 0.52188 -0.42917 C 0.52813 -0.42801 0.53837 -0.41667 0.54375 -0.4125 C 0.55677 -0.40255 0.56597 -0.3912 0.57813 -0.37917 C 0.57934 -0.37593 0.5875 -0.35602 0.5875 -0.35 C 0.5875 -0.33194 0.58767 -0.31343 0.58438 -0.29583 C 0.5809 -0.27755 0.55122 -0.26944 0.54063 -0.26667 C 0.52292 -0.26806 0.50486 -0.26574 0.4875 -0.27083 C 0.4776 -0.27384 0.48715 -0.29213 0.49375 -0.3 C 0.49722 -0.30417 0.51337 -0.32014 0.52188 -0.32083 C 0.55087 -0.32338 0.58021 -0.32361 0.60938 -0.325 C 0.61233 -0.32593 0.6276 -0.33056 0.63125 -0.33333 C 0.63785 -0.33819 0.65 -0.35 0.65 -0.35 C 0.65208 -0.35417 0.65365 -0.35903 0.65625 -0.36273 C 0.65885 -0.3662 0.66337 -0.36667 0.66563 -0.37083 C 0.66892 -0.37685 0.66979 -0.38472 0.67188 -0.39167 C 0.66892 -0.43773 0.67326 -0.43981 0.65313 -0.46667 C 0.64479 -0.46528 0.63576 -0.46713 0.62813 -0.4625 C 0.62517 -0.46065 0.625 -0.4544 0.625 -0.45 C 0.625 -0.43009 0.62882 -0.43287 0.64063 -0.425 C 0.66667 -0.42639 0.69288 -0.42477 0.71875 -0.42917 C 0.73472 -0.43194 0.7349 -0.44282 0.74688 -0.45 C 0.76076 -0.45833 0.77431 -0.46065 0.7875 -0.47083 C 0.80139 -0.48148 0.81319 -0.50046 0.82813 -0.50833 C 0.83333 -0.51111 0.83889 -0.51296 0.84375 -0.51667 C 0.85625 -0.52593 0.86146 -0.53981 0.875 -0.54583 C 0.87708 -0.55 0.87882 -0.55463 0.88125 -0.55833 C 0.88715 -0.56713 0.9 -0.58333 0.9 -0.58333 C 0.90469 -0.60255 0.90156 -0.61898 0.89688 -0.6375 C 0.90035 -0.66551 0.90347 -0.6838 0.91875 -0.70417 C 0.92431 -0.72662 0.9191 -0.71042 0.93438 -0.7375 C 0.94392 -0.7544 0.94219 -0.7625 0.95625 -0.775 C 0.96354 -0.78958 0.96858 -0.79861 0.98125 -0.80417 C 0.99792 -0.80278 1.01528 -0.80671 1.03125 -0.8 C 1.03976 -0.79653 1.05 -0.775 1.05 -0.775 C 1.05104 -0.77083 1.05434 -0.76667 1.05313 -0.7625 C 1.04878 -0.74815 1.04045 -0.75556 1.03438 -0.75833 C 1.03229 -0.7625 1.02865 -0.76597 1.02813 -0.77083 C 1.02691 -0.7831 1.03333 -0.80093 1.04063 -0.80833 C 1.04514 -0.81273 1.05122 -0.81343 1.05625 -0.81667 C 1.05955 -0.81898 1.06233 -0.82245 1.06563 -0.825 C 1.06962 -0.82801 1.07813 -0.83333 1.07813 -0.83333 E">
                                      <p:cBhvr>
                                        <p:cTn id="31" dur="100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0 C -0.01094 -0.04398 -0.00695 -0.08773 0 -0.13333 C 0.00225 -0.16667 0.00347 -0.20556 0.0125 -0.2375 C 0.01388 -0.24236 0.01718 -0.24537 0.01875 -0.25 C 0.02118 -0.25833 0.02482 -0.275 0.02482 -0.275 C 0.02048 -0.37083 0.03385 -0.31991 0.0125 -0.35417 C 0.01006 -0.35833 0.0092 -0.36343 0.00607 -0.3669 C 0.00364 -0.36968 -0.00018 -0.36921 -0.0033 -0.37083 C -0.0066 -0.37315 -0.00921 -0.37778 -0.01268 -0.3794 C -0.02066 -0.3831 -0.0375 -0.3875 -0.0375 -0.3875 C -0.06164 -0.38102 -0.06667 -0.37153 -0.08143 -0.34583 C -0.08021 -0.34028 -0.08125 -0.3331 -0.07813 -0.32917 C -0.07535 -0.32523 -0.06997 -0.32523 -0.06563 -0.32523 C -0.05105 -0.32523 -0.03646 -0.32801 -0.02205 -0.32917 C -0.00261 -0.3463 -0.02136 -0.32755 -0.00625 -0.35023 C 0.01128 -0.37616 0.03402 -0.40972 0.05607 -0.42917 C 0.06128 -0.43935 0.06857 -0.44722 0.07187 -0.45833 C 0.0743 -0.4662 0.07378 -0.475 0.07482 -0.48333 C 0.07343 -0.5206 0.08385 -0.5588 0.05607 -0.57106 C 0.03958 -0.56944 0.02256 -0.57014 0.00607 -0.56667 C -0.00348 -0.56505 -0.02761 -0.53403 -0.0375 -0.525 C -0.04462 -0.51065 -0.05174 -0.50116 -0.06268 -0.4919 C -0.0698 -0.46319 -0.06268 -0.49861 -0.06268 -0.45833 C -0.06268 -0.43611 -0.07483 -0.41991 -0.0875 -0.40856 C -0.0948 -0.39375 -0.10018 -0.38912 -0.11268 -0.38333 C -0.14254 -0.38843 -0.16875 -0.39583 -0.1908 -0.425 C -0.19289 -0.43333 -0.1948 -0.44167 -0.19688 -0.45023 C -0.19792 -0.45417 -0.20018 -0.46273 -0.20018 -0.46273 C -0.18264 -0.47801 -0.18629 -0.4787 -0.1533 -0.46667 C -0.14896 -0.46505 -0.14723 -0.45787 -0.14375 -0.45417 C -0.1408 -0.45093 -0.1375 -0.44861 -0.13438 -0.44583 C -0.13646 -0.42639 -0.1349 -0.40556 -0.1408 -0.3875 C -0.14375 -0.37824 -0.15261 -0.37546 -0.15938 -0.37083 C -0.1757 -0.36019 -0.19202 -0.3588 -0.20938 -0.35417 C -0.25417 -0.35556 -0.29896 -0.35486 -0.34375 -0.35833 C -0.3573 -0.35949 -0.375 -0.3919 -0.375 -0.3919 C -0.38837 -0.44444 -0.37744 -0.39375 -0.38438 -0.4875 C -0.38542 -0.50231 -0.38959 -0.49931 -0.39375 -0.5125 C -0.39653 -0.5206 -0.40018 -0.5375 -0.40018 -0.5375 C -0.39914 -0.54583 -0.39948 -0.55509 -0.39688 -0.56273 C -0.38941 -0.58519 -0.36268 -0.58495 -0.35018 -0.6 C -0.34237 -0.60926 -0.32813 -0.62917 -0.32813 -0.62917 C -0.325 -0.64977 -0.32119 -0.66204 -0.3125 -0.67917 C -0.31164 -0.68495 -0.30886 -0.69005 -0.30955 -0.69606 C -0.31181 -0.72199 -0.3257 -0.72245 -0.3408 -0.72917 C -0.36771 -0.72801 -0.3948 -0.72755 -0.42205 -0.725 C -0.43629 -0.72361 -0.4448 -0.70139 -0.45018 -0.68773 C -0.45955 -0.66204 -0.47153 -0.63519 -0.48438 -0.61273 C -0.48247 -0.59722 -0.48212 -0.58125 -0.4783 -0.56667 C -0.47674 -0.56134 -0.47153 -0.55903 -0.46893 -0.55417 C -0.4665 -0.55023 -0.46459 -0.54583 -0.46268 -0.54167 C -0.46355 -0.52639 -0.46233 -0.51065 -0.46563 -0.49583 C -0.46667 -0.49097 -0.47119 -0.48796 -0.475 -0.4875 C -0.48542 -0.48634 -0.50695 -0.49259 -0.51875 -0.49583 C -0.52205 -0.49861 -0.525 -0.50208 -0.52813 -0.5044 C -0.53108 -0.50602 -0.53507 -0.50579 -0.5375 -0.50833 C -0.54254 -0.51296 -0.54601 -0.51944 -0.55018 -0.525 C -0.55122 -0.52917 -0.55244 -0.53333 -0.55313 -0.5375 C -0.55539 -0.54861 -0.55938 -0.57106 -0.55938 -0.57106 C -0.55712 -0.65579 -0.58039 -0.68102 -0.5375 -0.7 C -0.54306 -0.7213 -0.53629 -0.70648 -0.55018 -0.7169 C -0.5823 -0.74051 -0.55712 -0.72801 -0.57813 -0.73773 C -0.60105 -0.73611 -0.62396 -0.73565 -0.64688 -0.73333 C -0.65226 -0.73287 -0.65834 -0.73333 -0.6625 -0.72917 C -0.6665 -0.72569 -0.66667 -0.71829 -0.66875 -0.7125 C -0.66615 -0.68519 -0.66303 -0.65949 -0.65625 -0.63356 C -0.6573 -0.62384 -0.65625 -0.61319 -0.65955 -0.6044 C -0.66702 -0.58241 -0.68299 -0.58472 -0.69688 -0.57917 C -0.73455 -0.56412 -0.68872 -0.57616 -0.73125 -0.56667 C -0.78073 -0.57037 -0.78907 -0.55764 -0.8125 -0.6044 C -0.81563 -0.62014 -0.8191 -0.64722 -0.80625 -0.65833 C -0.80261 -0.66181 -0.79792 -0.66111 -0.79375 -0.6625 C -0.77709 -0.66111 -0.76025 -0.66181 -0.74393 -0.65833 C -0.74028 -0.65764 -0.73768 -0.65255 -0.73455 -0.65 C -0.68889 -0.61528 -0.74757 -0.66088 -0.7125 -0.6375 C -0.70747 -0.63403 -0.6941 -0.62014 -0.69063 -0.61667 C -0.68455 -0.61088 -0.67188 -0.6 -0.67188 -0.6 C -0.66424 -0.58472 -0.6573 -0.56991 -0.66563 -0.55 C -0.66719 -0.5463 -0.67188 -0.54699 -0.67518 -0.54583 C -0.67935 -0.54421 -0.68334 -0.54282 -0.6875 -0.54167 C -0.70608 -0.53681 -0.72518 -0.53264 -0.74393 -0.52917 C -0.76476 -0.53194 -0.79185 -0.51713 -0.80625 -0.5375 C -0.81858 -0.55509 -0.80261 -0.58472 -0.80018 -0.60833 C -0.79671 -0.63866 -0.78056 -0.65648 -0.76893 -0.67917 C -0.76198 -0.69259 -0.7566 -0.70718 -0.75018 -0.72083 C -0.74323 -0.73565 -0.73125 -0.76667 -0.73125 -0.76667 C -0.72935 -0.78032 -0.71997 -0.81597 -0.72813 -0.83333 C -0.72917 -0.83519 -0.74671 -0.8456 -0.75018 -0.84606 C -0.81997 -0.84977 -0.88959 -0.85139 -0.95938 -0.85417 C -0.98473 -0.85694 -1.00191 -0.85301 -1.02188 -0.87106 C -1.02761 -0.88241 -1.03594 -0.8919 -1.04063 -0.90417 C -1.04896 -0.92639 -1.05348 -0.95556 -1.05938 -0.97917 C -1.06251 -0.9919 -1.06563 -1.00417 -1.06876 -1.01667 C -1.06997 -1.02153 -1.07813 -1.025 -1.07813 -1.025 E">
                                      <p:cBhvr>
                                        <p:cTn id="33" dur="10000" fill="hold"/>
                                        <p:tgtEl>
                                          <p:spTgt spid="10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C 0.01597 -0.01389 0.00434 -0.00093 0.01562 -0.025 C 0.03142 -0.05857 0.01805 -0.02616 0.03437 -0.05394 C 0.03906 -0.06204 0.04149 -0.07176 0.04687 -0.07894 C 0.0743 -0.11551 0.03958 -0.07084 0.06562 -0.1 C 0.08611 -0.12246 0.06371 -0.10139 0.08437 -0.12917 C 0.09253 -0.14005 0.10364 -0.14862 0.1125 -0.15811 C 0.12187 -0.16875 0.13072 -0.18195 0.14062 -0.19144 C 0.14444 -0.19538 0.14947 -0.1963 0.15312 -0.2 C 0.18472 -0.23125 0.14791 -0.20463 0.17812 -0.22477 C 0.18854 -0.24561 0.18125 -0.2345 0.20312 -0.25394 C 0.20538 -0.25602 0.21631 -0.27848 0.21875 -0.28311 C 0.2177 -0.32755 0.2184 -0.37223 0.21562 -0.41644 C 0.21527 -0.42153 0.21111 -0.42454 0.20937 -0.42917 C 0.20798 -0.43311 0.20833 -0.43797 0.20625 -0.44144 C 0.20381 -0.44561 0.19982 -0.44653 0.19687 -0.44977 C 0.17934 -0.46968 0.19722 -0.4588 0.17187 -0.46667 C 0.16354 -0.46922 0.14687 -0.47477 0.14687 -0.47477 C 0.12291 -0.47362 0.09895 -0.47269 0.075 -0.47061 C 0.05173 -0.46875 0.02968 -0.45741 0.00625 -0.45417 C -0.01077 -0.4426 -0.02813 -0.43426 -0.04688 -0.42917 C -0.06007 -0.41158 -0.06216 -0.40255 -0.07188 -0.38311 C -0.07084 -0.36783 -0.07205 -0.35186 -0.06875 -0.33727 C -0.06771 -0.33241 -0.06198 -0.33241 -0.05938 -0.32917 C -0.04375 -0.30811 -0.06667 -0.31945 -0.03438 -0.31227 C 0.01753 -0.2845 0.07291 -0.26875 0.12812 -0.25811 C 0.15173 -0.24769 0.18055 -0.24723 0.20312 -0.2625 C 0.20642 -0.26459 0.20902 -0.26875 0.2125 -0.27084 C 0.21649 -0.27292 0.221 -0.27246 0.225 -0.27477 C 0.24479 -0.28612 0.28055 -0.30718 0.29687 -0.32917 C 0.30625 -0.34144 0.31388 -0.36065 0.32187 -0.37477 C 0.32604 -0.4257 0.32812 -0.43172 0.32187 -0.49584 C 0.32135 -0.50047 0.31753 -0.50394 0.31562 -0.50811 C 0.31163 -0.51737 0.31059 -0.52871 0.30625 -0.53727 C 0.2967 -0.55672 0.28281 -0.57061 0.26875 -0.58311 C 0.2644 -0.58704 0.25833 -0.58565 0.25312 -0.5875 C 0.23715 -0.59213 0.22204 -0.59885 0.20625 -0.60394 C 0.19375 -0.60255 0.18125 -0.60209 0.16875 -0.6 C 0.16128 -0.59838 0.15434 -0.59329 0.14687 -0.59167 C 0.13854 -0.58959 0.1302 -0.58866 0.12187 -0.5875 C 0.071 -0.59167 0.06892 -0.57848 0.05 -0.62917 C 0.05295 -0.65325 0.05729 -0.67778 0.06562 -0.69977 C 0.07152 -0.71551 0.07256 -0.71112 0.08125 -0.725 C 0.09427 -0.74561 0.07968 -0.73033 0.09687 -0.74561 C 0.10781 -0.76783 0.09687 -0.75163 0.11562 -0.76227 C 0.11909 -0.76436 0.1217 -0.76829 0.125 -0.77061 C 0.1427 -0.78264 0.18211 -0.78519 0.2 -0.78727 C 0.25225 -0.78426 0.2552 -0.78681 0.29062 -0.775 C 0.30729 -0.75996 0.29739 -0.77014 0.31875 -0.74167 C 0.32187 -0.7375 0.32812 -0.72894 0.32812 -0.72894 C 0.31684 -0.65325 0.24288 -0.70209 0.19062 -0.70417 C 0.17777 -0.71112 0.17239 -0.71158 0.1625 -0.725 C 0.14444 -0.74908 0.14791 -0.79561 0.14062 -0.825 C 0.14166 -0.83311 0.14166 -0.8419 0.14375 -0.84977 C 0.14583 -0.85834 0.15902 -0.87593 0.1625 -0.87894 C 0.1651 -0.88149 0.16892 -0.88102 0.17187 -0.88311 C 0.17847 -0.88797 0.1835 -0.89676 0.19062 -0.89977 C 0.19375 -0.90139 0.19704 -0.90232 0.2 -0.90417 C 0.21753 -0.91575 0.2342 -0.93033 0.25312 -0.9375 C 0.27152 -0.94445 0.25364 -0.93774 0.27187 -0.94977 C 0.27482 -0.95186 0.27829 -0.95209 0.28125 -0.95417 C 0.28454 -0.95649 0.28715 -0.96088 0.29062 -0.96227 C 0.29861 -0.96644 0.31562 -0.97084 0.31562 -0.97084 C 0.31875 -0.97362 0.32152 -0.97732 0.325 -0.97894 C 0.33923 -0.98612 0.33836 -0.97987 0.35 -0.9875 C 0.35329 -0.98982 0.3559 -0.99352 0.35937 -0.99561 C 0.37222 -1.00348 0.38472 -1.00741 0.39687 -1.01644 C 0.40347 -1.0213 0.40885 -1.02871 0.41562 -1.03311 C 0.41979 -1.03588 0.42395 -1.03866 0.42812 -1.04144 C 0.4302 -1.047 0.4342 -1.05186 0.43437 -1.05811 C 0.43524 -1.08866 0.43402 -1.11945 0.43125 -1.14977 C 0.43072 -1.15556 0.41805 -1.17223 0.41562 -1.17477 C 0.40381 -1.18704 0.3901 -1.19607 0.37812 -1.20811 C 0.37395 -1.21227 0.36927 -1.21575 0.36562 -1.22061 C 0.36197 -1.22547 0.36024 -1.23264 0.35625 -1.23727 C 0.35277 -1.24121 0.34774 -1.24237 0.34375 -1.24561 C 0.33784 -1.25047 0.31909 -1.26713 0.3125 -1.27477 C 0.3092 -1.27871 0.30677 -1.2838 0.30312 -1.28727 C 0.2993 -1.29098 0.29427 -1.29167 0.29062 -1.29561 C 0.28368 -1.30301 0.27187 -1.32061 0.27187 -1.32061 C 0.27083 -1.32477 0.26718 -1.3294 0.26875 -1.33311 C 0.27204 -1.34075 0.28437 -1.34977 0.28437 -1.34977 E">
                                      <p:cBhvr>
                                        <p:cTn id="35" dur="10000" fill="hold"/>
                                        <p:tgtEl>
                                          <p:spTgt spid="10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0.00139 -0.02222 0.00521 -0.04421 0.00625 -0.06667 C 0.00816 -0.10694 0.00469 -0.14769 0.00938 -0.1875 C 0.01111 -0.20278 0.04063 -0.20833 0.04063 -0.20833 C 0.05208 -0.20694 0.06372 -0.20694 0.075 -0.20417 C 0.08142 -0.20255 0.0875 -0.19861 0.09375 -0.19583 C 0.09688 -0.19444 0.10313 -0.19167 0.10313 -0.19167 C 0.10625 -0.1875 0.11007 -0.18403 0.1125 -0.17917 C 0.11875 -0.16667 0.11198 -0.14884 0.12813 -0.14167 C 0.14149 -0.13565 0.13438 -0.13866 0.15 -0.13333 C 0.15938 -0.125 0.16875 -0.12083 0.17813 -0.1125 C 0.20833 -0.11389 0.23872 -0.11296 0.26875 -0.11667 C 0.27344 -0.11713 0.27726 -0.12176 0.28125 -0.125 C 0.30469 -0.14375 0.32865 -0.16968 0.34375 -0.2 C 0.34045 -0.23588 0.33976 -0.26181 0.31563 -0.28333 C 0.30469 -0.29306 0.29635 -0.30185 0.28438 -0.30833 C 0.2783 -0.31157 0.26563 -0.31667 0.26563 -0.31667 C 0.24792 -0.31528 0.23003 -0.31551 0.2125 -0.3125 C 0.2059 -0.31134 0.2 -0.30694 0.19375 -0.30417 C 0.18663 -0.30093 0.175 -0.2875 0.175 -0.2875 C 0.16719 -0.25648 0.18142 -0.2412 0.19375 -0.21667 C 0.1974 -0.20926 0.2125 -0.20833 0.2125 -0.20833 C 0.27691 -0.21088 0.3092 -0.20718 0.3625 -0.225 C 0.3849 -0.24491 0.37951 -0.23194 0.38438 -0.25833 C 0.38611 -0.29514 0.3816 -0.33634 0.40625 -0.35833 C 0.41563 -0.37708 0.42222 -0.40046 0.43438 -0.41667 C 0.44253 -0.42755 0.45503 -0.42986 0.46563 -0.43333 C 0.48438 -0.43194 0.5033 -0.43264 0.52188 -0.42917 C 0.52813 -0.42801 0.53837 -0.41667 0.54375 -0.4125 C 0.55677 -0.40255 0.56597 -0.3912 0.57813 -0.37917 C 0.57934 -0.37593 0.5875 -0.35602 0.5875 -0.35 C 0.5875 -0.33194 0.58767 -0.31343 0.58438 -0.29583 C 0.5809 -0.27755 0.55122 -0.26944 0.54063 -0.26667 C 0.52292 -0.26806 0.50486 -0.26574 0.4875 -0.27083 C 0.4776 -0.27384 0.48715 -0.29213 0.49375 -0.3 C 0.49722 -0.30417 0.51337 -0.32014 0.52188 -0.32083 C 0.55087 -0.32338 0.58021 -0.32361 0.60938 -0.325 C 0.61233 -0.32593 0.6276 -0.33056 0.63125 -0.33333 C 0.63785 -0.33819 0.65 -0.35 0.65 -0.35 C 0.65208 -0.35417 0.65365 -0.35903 0.65625 -0.36273 C 0.65885 -0.3662 0.66337 -0.36667 0.66563 -0.37083 C 0.66892 -0.37685 0.66979 -0.38472 0.67188 -0.39167 C 0.66892 -0.43773 0.67326 -0.43981 0.65313 -0.46667 C 0.64479 -0.46528 0.63576 -0.46713 0.62813 -0.4625 C 0.62517 -0.46065 0.625 -0.4544 0.625 -0.45 C 0.625 -0.43009 0.62882 -0.43287 0.64063 -0.425 C 0.66667 -0.42639 0.69288 -0.42477 0.71875 -0.42917 C 0.73472 -0.43194 0.7349 -0.44282 0.74688 -0.45 C 0.76076 -0.45833 0.77431 -0.46065 0.7875 -0.47083 C 0.80139 -0.48148 0.81319 -0.50046 0.82813 -0.50833 C 0.83333 -0.51111 0.83889 -0.51296 0.84375 -0.51667 C 0.85625 -0.52593 0.86146 -0.53981 0.875 -0.54583 C 0.87708 -0.55 0.87882 -0.55463 0.88125 -0.55833 C 0.88715 -0.56713 0.9 -0.58333 0.9 -0.58333 C 0.90469 -0.60255 0.90156 -0.61898 0.89688 -0.6375 C 0.90035 -0.66551 0.90347 -0.6838 0.91875 -0.70417 C 0.92431 -0.72662 0.9191 -0.71042 0.93438 -0.7375 C 0.94392 -0.7544 0.94219 -0.7625 0.95625 -0.775 C 0.96354 -0.78958 0.96858 -0.79861 0.98125 -0.80417 C 0.99792 -0.80278 1.01528 -0.80671 1.03125 -0.8 C 1.03976 -0.79653 1.05 -0.775 1.05 -0.775 C 1.05104 -0.77083 1.05434 -0.76667 1.05313 -0.7625 C 1.04878 -0.74815 1.04045 -0.75556 1.03438 -0.75833 C 1.03229 -0.7625 1.02865 -0.76597 1.02813 -0.77083 C 1.02691 -0.7831 1.03333 -0.80093 1.04063 -0.80833 C 1.04514 -0.81273 1.05122 -0.81343 1.05625 -0.81667 C 1.05955 -0.81898 1.06233 -0.82245 1.06563 -0.825 C 1.06962 -0.82801 1.07813 -0.83333 1.07813 -0.83333 E">
                                      <p:cBhvr>
                                        <p:cTn id="37" dur="10000" fill="hold"/>
                                        <p:tgtEl>
                                          <p:spTgt spid="10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C -0.01094 -0.04398 -0.00695 -0.08773 0 -0.13333 C 0.00225 -0.16667 0.00347 -0.20556 0.0125 -0.2375 C 0.01388 -0.24236 0.01718 -0.24537 0.01875 -0.25 C 0.02118 -0.25833 0.02482 -0.275 0.02482 -0.275 C 0.02048 -0.37083 0.03385 -0.31991 0.0125 -0.35417 C 0.01006 -0.35833 0.0092 -0.36343 0.00607 -0.3669 C 0.00364 -0.36968 -0.00018 -0.36921 -0.0033 -0.37083 C -0.0066 -0.37315 -0.00921 -0.37778 -0.01268 -0.3794 C -0.02066 -0.3831 -0.0375 -0.3875 -0.0375 -0.3875 C -0.06164 -0.38102 -0.06667 -0.37153 -0.08143 -0.34583 C -0.08021 -0.34028 -0.08125 -0.3331 -0.07813 -0.32917 C -0.07535 -0.32523 -0.06997 -0.32523 -0.06563 -0.32523 C -0.05105 -0.32523 -0.03646 -0.32801 -0.02205 -0.32917 C -0.00261 -0.3463 -0.02136 -0.32755 -0.00625 -0.35023 C 0.01128 -0.37616 0.03402 -0.40972 0.05607 -0.42917 C 0.06128 -0.43935 0.06857 -0.44722 0.07187 -0.45833 C 0.0743 -0.4662 0.07378 -0.475 0.07482 -0.48333 C 0.07343 -0.5206 0.08385 -0.5588 0.05607 -0.57106 C 0.03958 -0.56944 0.02256 -0.57014 0.00607 -0.56667 C -0.00348 -0.56505 -0.02761 -0.53403 -0.0375 -0.525 C -0.04462 -0.51065 -0.05174 -0.50116 -0.06268 -0.4919 C -0.0698 -0.46319 -0.06268 -0.49861 -0.06268 -0.45833 C -0.06268 -0.43611 -0.07483 -0.41991 -0.0875 -0.40856 C -0.0948 -0.39375 -0.10018 -0.38912 -0.11268 -0.38333 C -0.14254 -0.38843 -0.16875 -0.39583 -0.1908 -0.425 C -0.19289 -0.43333 -0.1948 -0.44167 -0.19688 -0.45023 C -0.19792 -0.45417 -0.20018 -0.46273 -0.20018 -0.46273 C -0.18264 -0.47801 -0.18629 -0.4787 -0.1533 -0.46667 C -0.14896 -0.46505 -0.14723 -0.45787 -0.14375 -0.45417 C -0.1408 -0.45093 -0.1375 -0.44861 -0.13438 -0.44583 C -0.13646 -0.42639 -0.1349 -0.40556 -0.1408 -0.3875 C -0.14375 -0.37824 -0.15261 -0.37546 -0.15938 -0.37083 C -0.1757 -0.36019 -0.19202 -0.3588 -0.20938 -0.35417 C -0.25417 -0.35556 -0.29896 -0.35486 -0.34375 -0.35833 C -0.3573 -0.35949 -0.375 -0.3919 -0.375 -0.3919 C -0.38837 -0.44444 -0.37744 -0.39375 -0.38438 -0.4875 C -0.38542 -0.50231 -0.38959 -0.49931 -0.39375 -0.5125 C -0.39653 -0.5206 -0.40018 -0.5375 -0.40018 -0.5375 C -0.39914 -0.54583 -0.39948 -0.55509 -0.39688 -0.56273 C -0.38941 -0.58519 -0.36268 -0.58495 -0.35018 -0.6 C -0.34237 -0.60926 -0.32813 -0.62917 -0.32813 -0.62917 C -0.325 -0.64977 -0.32119 -0.66204 -0.3125 -0.67917 C -0.31164 -0.68495 -0.30886 -0.69005 -0.30955 -0.69606 C -0.31181 -0.72199 -0.3257 -0.72245 -0.3408 -0.72917 C -0.36771 -0.72801 -0.3948 -0.72755 -0.42205 -0.725 C -0.43629 -0.72361 -0.4448 -0.70139 -0.45018 -0.68773 C -0.45955 -0.66204 -0.47153 -0.63519 -0.48438 -0.61273 C -0.48247 -0.59722 -0.48212 -0.58125 -0.4783 -0.56667 C -0.47674 -0.56134 -0.47153 -0.55903 -0.46893 -0.55417 C -0.4665 -0.55023 -0.46459 -0.54583 -0.46268 -0.54167 C -0.46355 -0.52639 -0.46233 -0.51065 -0.46563 -0.49583 C -0.46667 -0.49097 -0.47119 -0.48796 -0.475 -0.4875 C -0.48542 -0.48634 -0.50695 -0.49259 -0.51875 -0.49583 C -0.52205 -0.49861 -0.525 -0.50208 -0.52813 -0.5044 C -0.53108 -0.50602 -0.53507 -0.50579 -0.5375 -0.50833 C -0.54254 -0.51296 -0.54601 -0.51944 -0.55018 -0.525 C -0.55122 -0.52917 -0.55244 -0.53333 -0.55313 -0.5375 C -0.55539 -0.54861 -0.55938 -0.57106 -0.55938 -0.57106 C -0.55712 -0.65579 -0.58039 -0.68102 -0.5375 -0.7 C -0.54306 -0.7213 -0.53629 -0.70648 -0.55018 -0.7169 C -0.5823 -0.74051 -0.55712 -0.72801 -0.57813 -0.73773 C -0.60105 -0.73611 -0.62396 -0.73565 -0.64688 -0.73333 C -0.65226 -0.73287 -0.65834 -0.73333 -0.6625 -0.72917 C -0.6665 -0.72569 -0.66667 -0.71829 -0.66875 -0.7125 C -0.66615 -0.68519 -0.66303 -0.65949 -0.65625 -0.63356 C -0.6573 -0.62384 -0.65625 -0.61319 -0.65955 -0.6044 C -0.66702 -0.58241 -0.68299 -0.58472 -0.69688 -0.57917 C -0.73455 -0.56412 -0.68872 -0.57616 -0.73125 -0.56667 C -0.78073 -0.57037 -0.78907 -0.55764 -0.8125 -0.6044 C -0.81563 -0.62014 -0.8191 -0.64722 -0.80625 -0.65833 C -0.80261 -0.66181 -0.79792 -0.66111 -0.79375 -0.6625 C -0.77709 -0.66111 -0.76025 -0.66181 -0.74393 -0.65833 C -0.74028 -0.65764 -0.73768 -0.65255 -0.73455 -0.65 C -0.68889 -0.61528 -0.74757 -0.66088 -0.7125 -0.6375 C -0.70747 -0.63403 -0.6941 -0.62014 -0.69063 -0.61667 C -0.68455 -0.61088 -0.67188 -0.6 -0.67188 -0.6 C -0.66424 -0.58472 -0.6573 -0.56991 -0.66563 -0.55 C -0.66719 -0.5463 -0.67188 -0.54699 -0.67518 -0.54583 C -0.67935 -0.54421 -0.68334 -0.54282 -0.6875 -0.54167 C -0.70608 -0.53681 -0.72518 -0.53264 -0.74393 -0.52917 C -0.76476 -0.53194 -0.79185 -0.51713 -0.80625 -0.5375 C -0.81858 -0.55509 -0.80261 -0.58472 -0.80018 -0.60833 C -0.79671 -0.63866 -0.78056 -0.65648 -0.76893 -0.67917 C -0.76198 -0.69259 -0.7566 -0.70718 -0.75018 -0.72083 C -0.74323 -0.73565 -0.73125 -0.76667 -0.73125 -0.76667 C -0.72935 -0.78032 -0.71997 -0.81597 -0.72813 -0.83333 C -0.72917 -0.83519 -0.74671 -0.8456 -0.75018 -0.84606 C -0.81997 -0.84977 -0.88959 -0.85139 -0.95938 -0.85417 C -0.98473 -0.85694 -1.00191 -0.85301 -1.02188 -0.87106 C -1.02761 -0.88241 -1.03594 -0.8919 -1.04063 -0.90417 C -1.04896 -0.92639 -1.05348 -0.95556 -1.05938 -0.97917 C -1.06251 -0.9919 -1.06563 -1.00417 -1.06876 -1.01667 C -1.06997 -1.02153 -1.07813 -1.025 -1.07813 -1.025 E">
                                      <p:cBhvr>
                                        <p:cTn id="39" dur="10000" fill="hold"/>
                                        <p:tgtEl>
                                          <p:spTgt spid="1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89 0.01968 0.01475 0.04306 0.025 0.0625 C 0.02829 0.06898 0.03402 0.07292 0.0375 0.07917 C 0.0434 0.08959 0.04791 0.10139 0.05312 0.1125 C 0.05503 0.11667 0.05972 0.1176 0.0625 0.12084 C 0.09895 0.1625 0.04965 0.11366 0.09062 0.15 C 0.11406 0.17084 0.09149 0.15486 0.11875 0.175 C 0.12569 0.1801 0.13368 0.18241 0.14062 0.1875 C 0.14722 0.19236 0.15312 0.19861 0.15937 0.20417 C 0.16875 0.2125 0.18993 0.21482 0.2 0.21667 C 0.22031 0.21273 0.22795 0.2176 0.23437 0.19167 C 0.23333 0.18611 0.22708 0.17639 0.23125 0.175 C 0.26736 0.16297 0.26666 0.16875 0.27812 0.19167 C 0.27569 0.23658 0.28298 0.24977 0.25937 0.27084 C 0.2427 0.30417 0.22065 0.29746 0.19062 0.3 C 0.17291 0.30162 0.1552 0.30278 0.1375 0.30417 C 0.10225 0.30116 0.08732 0.30811 0.0625 0.28334 C 0.05625 0.28473 0.0493 0.28334 0.04375 0.2875 C 0.04097 0.28959 0.03958 0.29561 0.04062 0.3 C 0.04305 0.30949 0.04861 0.3169 0.05312 0.325 C 0.06423 0.34491 0.07743 0.36158 0.09062 0.37917 C 0.09375 0.38334 0.09565 0.39028 0.1 0.39167 C 0.10416 0.39306 0.10833 0.39445 0.1125 0.39584 C 0.14895 0.39445 0.18541 0.39398 0.22187 0.39167 C 0.22725 0.39144 0.24322 0.38773 0.25 0.38334 C 0.26076 0.37616 0.26822 0.36297 0.27812 0.35417 C 0.2802 0.35 0.28125 0.34422 0.28437 0.34167 C 0.2927 0.33473 0.30312 0.33334 0.3125 0.32917 C 0.32065 0.32547 0.3375 0.32084 0.3375 0.32084 C 0.34687 0.32223 0.35659 0.32107 0.36562 0.325 C 0.36979 0.32686 0.3717 0.33357 0.375 0.3375 C 0.37899 0.34213 0.3835 0.34537 0.3875 0.35 C 0.39079 0.35394 0.39409 0.35787 0.39687 0.3625 C 0.40156 0.37037 0.40937 0.3875 0.40937 0.3875 C 0.40833 0.40834 0.40798 0.42917 0.40625 0.45 C 0.40468 0.46898 0.39166 0.48982 0.38437 0.50417 C 0.38194 0.50903 0.37604 0.50695 0.37187 0.50834 C 0.35312 0.50695 0.3342 0.50764 0.31562 0.50417 C 0.29635 0.50047 0.30711 0.46042 0.30937 0.45 C 0.3118 0.43843 0.32152 0.43635 0.32812 0.43334 C 0.33229 0.42917 0.33593 0.42361 0.34062 0.42084 C 0.38854 0.39236 0.32708 0.44005 0.36875 0.40834 C 0.37899 0.40047 0.38975 0.39561 0.4 0.3875 C 0.40642 0.38241 0.4125 0.37639 0.41875 0.37084 C 0.43038 0.36042 0.46388 0.35278 0.47812 0.35 C 0.50937 0.35139 0.54062 0.35162 0.57187 0.35417 C 0.57621 0.3544 0.58072 0.35556 0.58437 0.35834 C 0.59392 0.36574 0.60156 0.38542 0.60937 0.39584 C 0.61076 0.43079 0.61579 0.49653 0.60937 0.53334 C 0.6085 0.5382 0.60312 0.53889 0.6 0.54167 C 0.57083 0.54028 0.54149 0.5426 0.5125 0.5375 C 0.49774 0.53496 0.50364 0.50787 0.50625 0.5 C 0.51527 0.47292 0.55138 0.47408 0.56875 0.47084 C 0.60868 0.47361 0.6342 0.46806 0.66562 0.49584 C 0.67916 0.49445 0.69305 0.4963 0.70625 0.49167 C 0.71354 0.48912 0.7177 0.47732 0.725 0.475 C 0.73229 0.47246 0.73958 0.46922 0.74687 0.46667 C 0.77118 0.45857 0.78611 0.46065 0.81562 0.45834 C 0.83402 0.45023 0.85312 0.44375 0.87187 0.4375 C 0.89218 0.43079 0.91319 0.41713 0.93437 0.41667 C 0.98854 0.41551 1.0427 0.41667 1.09687 0.41667 E">
                                      <p:cBhvr>
                                        <p:cTn id="41" dur="10000" fill="hold"/>
                                        <p:tgtEl>
                                          <p:spTgt spid="10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1000" fill="hold"/>
                                        <p:tgtEl>
                                          <p:spTgt spid="10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1" name="Picture 7" descr="绿色夏天"/>
          <p:cNvPicPr/>
          <p:nvPr/>
        </p:nvPicPr>
        <p:blipFill>
          <a:blip r:embed="rId1">
            <a:lum contrast="-36000"/>
          </a:blip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042" name="Text Box 11"/>
          <p:cNvSpPr/>
          <p:nvPr/>
        </p:nvSpPr>
        <p:spPr>
          <a:xfrm>
            <a:off x="395280" y="1052640"/>
            <a:ext cx="87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3" name="Text Box 12"/>
          <p:cNvSpPr/>
          <p:nvPr/>
        </p:nvSpPr>
        <p:spPr>
          <a:xfrm>
            <a:off x="0" y="1141560"/>
            <a:ext cx="91440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990000"/>
                </a:solidFill>
                <a:uFillTx/>
                <a:latin typeface="Arial"/>
                <a:ea typeface="宋体"/>
              </a:rPr>
              <a:t>补充句子：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生物在夏天是（                                     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长。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4" name="Text Box 14"/>
          <p:cNvSpPr/>
          <p:nvPr/>
        </p:nvSpPr>
        <p:spPr>
          <a:xfrm>
            <a:off x="6697800" y="2492280"/>
            <a:ext cx="32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飞快地、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5" name="Text Box 15"/>
          <p:cNvSpPr/>
          <p:nvPr/>
        </p:nvSpPr>
        <p:spPr>
          <a:xfrm>
            <a:off x="1258920" y="386064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跳跃地、活生生地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8bj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047" name="AutoShape 3"/>
          <p:cNvSpPr/>
          <p:nvPr/>
        </p:nvSpPr>
        <p:spPr>
          <a:xfrm>
            <a:off x="1116000" y="2205000"/>
            <a:ext cx="6408720" cy="9144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8" name="Text Box 4"/>
          <p:cNvSpPr/>
          <p:nvPr/>
        </p:nvSpPr>
        <p:spPr>
          <a:xfrm>
            <a:off x="1187280" y="2276640"/>
            <a:ext cx="67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昨天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……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今天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……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明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天</a:t>
            </a: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宋体"/>
                <a:ea typeface="楷体_GB2312"/>
              </a:rPr>
              <a:t>……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9" name="Text Box 5"/>
          <p:cNvSpPr/>
          <p:nvPr/>
        </p:nvSpPr>
        <p:spPr>
          <a:xfrm>
            <a:off x="826920" y="701640"/>
            <a:ext cx="7704360" cy="764280"/>
          </a:xfrm>
          <a:prstGeom prst="rect">
            <a:avLst/>
          </a:prstGeom>
          <a:solidFill>
            <a:srgbClr val="cccc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昨天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是苞蕾，</a:t>
            </a:r>
            <a:r>
              <a:rPr b="0" i="1" lang="zh-CN" sz="44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今天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是鲜花，</a:t>
            </a:r>
            <a:r>
              <a:rPr b="0" i="1" lang="zh-CN" sz="44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明天</a:t>
            </a: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就变成了小果实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0" name="Text Box 6"/>
          <p:cNvSpPr/>
          <p:nvPr/>
        </p:nvSpPr>
        <p:spPr>
          <a:xfrm>
            <a:off x="971640" y="3573360"/>
            <a:ext cx="7200720" cy="825120"/>
          </a:xfrm>
          <a:prstGeom prst="rect">
            <a:avLst/>
          </a:prstGeom>
          <a:solidFill>
            <a:srgbClr val="cccc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昨天</a:t>
            </a:r>
            <a:r>
              <a:rPr b="0" i="1" lang="zh-CN" sz="44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我在憧憬未来，</a:t>
            </a:r>
            <a:r>
              <a:rPr b="0" i="1" lang="zh-CN" sz="4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今天</a:t>
            </a:r>
            <a:r>
              <a:rPr b="0" i="1" lang="zh-CN" sz="44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我在努力，</a:t>
            </a:r>
            <a:r>
              <a:rPr b="0" i="1" lang="zh-CN" sz="44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明天</a:t>
            </a:r>
            <a:r>
              <a:rPr b="0" i="1" lang="zh-CN" sz="44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我希望会实现我的梦想。</a:t>
            </a:r>
            <a:r>
              <a:rPr b="0" i="1" lang="zh-CN" sz="48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 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8bj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052" name="Text Box 3"/>
          <p:cNvSpPr/>
          <p:nvPr/>
        </p:nvSpPr>
        <p:spPr>
          <a:xfrm>
            <a:off x="1619280" y="722160"/>
            <a:ext cx="73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　　</a:t>
            </a:r>
            <a:r>
              <a:rPr b="0" i="1" lang="zh-CN" sz="4400" spc="-1" strike="noStrike" u="sng">
                <a:solidFill>
                  <a:srgbClr val="cc0000"/>
                </a:solidFill>
                <a:uFillTx/>
                <a:latin typeface="Arial"/>
                <a:ea typeface="楷体_GB2312"/>
              </a:rPr>
              <a:t>因为… … 所以… …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3" name="Text Box 4"/>
          <p:cNvSpPr/>
          <p:nvPr/>
        </p:nvSpPr>
        <p:spPr>
          <a:xfrm>
            <a:off x="539640" y="2298600"/>
            <a:ext cx="799164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00ff"/>
                </a:solidFill>
                <a:uFillTx/>
                <a:latin typeface="Arial"/>
                <a:ea typeface="楷体_GB2312"/>
              </a:rPr>
              <a:t>       </a:t>
            </a:r>
            <a:r>
              <a:rPr b="0" i="1" lang="zh-CN" sz="4400" spc="-1" strike="noStrike" u="sng">
                <a:solidFill>
                  <a:srgbClr val="ff00ff"/>
                </a:solidFill>
                <a:uFillTx/>
                <a:latin typeface="Arial"/>
                <a:ea typeface="楷体_GB2312"/>
              </a:rPr>
              <a:t>因为</a:t>
            </a:r>
            <a:r>
              <a:rPr b="0" i="1" lang="zh-CN" sz="44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草长树木长，</a:t>
            </a:r>
            <a:r>
              <a:rPr b="0" i="1" lang="zh-CN" sz="4400" spc="-1" strike="noStrike" u="sng">
                <a:solidFill>
                  <a:srgbClr val="ff00ff"/>
                </a:solidFill>
                <a:uFillTx/>
                <a:latin typeface="Arial"/>
                <a:ea typeface="楷体_GB2312"/>
              </a:rPr>
              <a:t>所以</a:t>
            </a:r>
            <a:r>
              <a:rPr b="0" i="1" lang="zh-CN" sz="44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山是一天一 天变丰满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cc0000"/>
                </a:solidFill>
                <a:uFillTx/>
                <a:latin typeface="Arial"/>
                <a:ea typeface="宋体"/>
              </a:rPr>
              <a:t>                              … …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cc0000"/>
                </a:solidFill>
                <a:uFillTx/>
                <a:latin typeface="Arial"/>
                <a:ea typeface="宋体"/>
              </a:rPr>
              <a:t>                              … …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cc0000"/>
                </a:solidFill>
                <a:uFillTx/>
                <a:latin typeface="Arial"/>
                <a:ea typeface="宋体"/>
              </a:rPr>
              <a:t>                              … …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cc0000"/>
                </a:solidFill>
                <a:uFillTx/>
                <a:latin typeface="Arial"/>
                <a:ea typeface="宋体"/>
              </a:rPr>
              <a:t>                           </a:t>
            </a:r>
            <a:r>
              <a:rPr b="0" i="1" lang="zh-CN" sz="3200" spc="-1" strike="noStrike" u="sng">
                <a:solidFill>
                  <a:srgbClr val="cc0000"/>
                </a:solidFill>
                <a:uFillTx/>
                <a:latin typeface="Arial"/>
                <a:ea typeface="宋体"/>
              </a:rPr>
              <a:t>… …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4" name="Oval 5"/>
          <p:cNvSpPr/>
          <p:nvPr/>
        </p:nvSpPr>
        <p:spPr>
          <a:xfrm>
            <a:off x="1403280" y="9302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Text Box 4"/>
          <p:cNvSpPr/>
          <p:nvPr/>
        </p:nvSpPr>
        <p:spPr>
          <a:xfrm>
            <a:off x="539640" y="65412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课文中说，夏天是万物长大的时期。到课文中找一找例子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6" name="AutoShape 7"/>
          <p:cNvSpPr/>
          <p:nvPr/>
        </p:nvSpPr>
        <p:spPr>
          <a:xfrm>
            <a:off x="684360" y="1846440"/>
            <a:ext cx="2087280" cy="502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7" name="Text Box 9"/>
          <p:cNvSpPr/>
          <p:nvPr/>
        </p:nvSpPr>
        <p:spPr>
          <a:xfrm>
            <a:off x="826920" y="184464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草长树木长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8" name="AutoShape 10"/>
          <p:cNvSpPr/>
          <p:nvPr/>
        </p:nvSpPr>
        <p:spPr>
          <a:xfrm>
            <a:off x="684360" y="2709720"/>
            <a:ext cx="208728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9" name="AutoShape 11"/>
          <p:cNvSpPr/>
          <p:nvPr/>
        </p:nvSpPr>
        <p:spPr>
          <a:xfrm>
            <a:off x="684360" y="3646440"/>
            <a:ext cx="208728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0" name="AutoShape 12"/>
          <p:cNvSpPr/>
          <p:nvPr/>
        </p:nvSpPr>
        <p:spPr>
          <a:xfrm>
            <a:off x="684360" y="4581360"/>
            <a:ext cx="208728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1" name="AutoShape 13"/>
          <p:cNvSpPr/>
          <p:nvPr/>
        </p:nvSpPr>
        <p:spPr>
          <a:xfrm>
            <a:off x="684360" y="5445000"/>
            <a:ext cx="208728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2" name="Text Box 14"/>
          <p:cNvSpPr/>
          <p:nvPr/>
        </p:nvSpPr>
        <p:spPr>
          <a:xfrm>
            <a:off x="826920" y="2708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水长瀑布长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3" name="Text Box 15"/>
          <p:cNvSpPr/>
          <p:nvPr/>
        </p:nvSpPr>
        <p:spPr>
          <a:xfrm>
            <a:off x="900000" y="3645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铁轨也长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4" name="Text Box 16"/>
          <p:cNvSpPr/>
          <p:nvPr/>
        </p:nvSpPr>
        <p:spPr>
          <a:xfrm>
            <a:off x="826920" y="45799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人长知识长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5" name="Text Box 17"/>
          <p:cNvSpPr/>
          <p:nvPr/>
        </p:nvSpPr>
        <p:spPr>
          <a:xfrm>
            <a:off x="900000" y="54198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动物也长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6" name="AutoShape 19"/>
          <p:cNvSpPr/>
          <p:nvPr/>
        </p:nvSpPr>
        <p:spPr>
          <a:xfrm>
            <a:off x="3924360" y="2276640"/>
            <a:ext cx="2735280" cy="1584000"/>
          </a:xfrm>
          <a:prstGeom prst="wedgeRoundRectCallout">
            <a:avLst>
              <a:gd name="adj1" fmla="val 43208"/>
              <a:gd name="adj2" fmla="val 774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67" name="Picture 20" descr="200985201630159"/>
          <p:cNvPicPr/>
          <p:nvPr/>
        </p:nvPicPr>
        <p:blipFill>
          <a:blip r:embed="rId1"/>
          <a:stretch/>
        </p:blipFill>
        <p:spPr>
          <a:xfrm>
            <a:off x="5867280" y="4148280"/>
            <a:ext cx="2808360" cy="2160360"/>
          </a:xfrm>
          <a:prstGeom prst="rect">
            <a:avLst/>
          </a:prstGeom>
          <a:ln w="0">
            <a:noFill/>
          </a:ln>
        </p:spPr>
      </p:pic>
      <p:sp>
        <p:nvSpPr>
          <p:cNvPr id="1068" name="Text Box 21"/>
          <p:cNvSpPr/>
          <p:nvPr/>
        </p:nvSpPr>
        <p:spPr>
          <a:xfrm>
            <a:off x="4067280" y="24922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从自己和周围的事物中，我也发现万物也长</a:t>
            </a:r>
            <a:r>
              <a:rPr b="0" i="1" lang="en-US" sz="24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··· ···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4" descr="5867489_121510015579_2"/>
          <p:cNvPicPr/>
          <p:nvPr/>
        </p:nvPicPr>
        <p:blipFill>
          <a:blip r:embed="rId1"/>
          <a:stretch/>
        </p:blipFill>
        <p:spPr>
          <a:xfrm>
            <a:off x="179280" y="873000"/>
            <a:ext cx="8745480" cy="5985000"/>
          </a:xfrm>
          <a:prstGeom prst="rect">
            <a:avLst/>
          </a:prstGeom>
          <a:ln w="0">
            <a:noFill/>
          </a:ln>
        </p:spPr>
      </p:pic>
      <p:sp>
        <p:nvSpPr>
          <p:cNvPr id="1070" name="Text Box 5"/>
          <p:cNvSpPr/>
          <p:nvPr/>
        </p:nvSpPr>
        <p:spPr>
          <a:xfrm>
            <a:off x="826920" y="1700280"/>
            <a:ext cx="81378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不热不长，不热不大。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4" descr="1c348e995206446ee4dd3be4"/>
          <p:cNvPicPr/>
          <p:nvPr/>
        </p:nvPicPr>
        <p:blipFill>
          <a:blip r:embed="rId1"/>
          <a:stretch/>
        </p:blipFill>
        <p:spPr>
          <a:xfrm>
            <a:off x="395280" y="1452600"/>
            <a:ext cx="8388360" cy="5405400"/>
          </a:xfrm>
          <a:prstGeom prst="rect">
            <a:avLst/>
          </a:prstGeom>
          <a:ln w="0">
            <a:noFill/>
          </a:ln>
        </p:spPr>
      </p:pic>
      <p:sp>
        <p:nvSpPr>
          <p:cNvPr id="1072" name="Text Box 5"/>
          <p:cNvSpPr/>
          <p:nvPr/>
        </p:nvSpPr>
        <p:spPr>
          <a:xfrm>
            <a:off x="1547640" y="692280"/>
            <a:ext cx="678204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六月六，看谷秀。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4" descr="1238986121_1118076015"/>
          <p:cNvPicPr/>
          <p:nvPr/>
        </p:nvPicPr>
        <p:blipFill>
          <a:blip r:embed="rId1"/>
          <a:stretch/>
        </p:blipFill>
        <p:spPr>
          <a:xfrm>
            <a:off x="684360" y="932040"/>
            <a:ext cx="7900920" cy="5925960"/>
          </a:xfrm>
          <a:prstGeom prst="rect">
            <a:avLst/>
          </a:prstGeom>
          <a:ln w="0">
            <a:noFill/>
          </a:ln>
        </p:spPr>
      </p:pic>
      <p:sp>
        <p:nvSpPr>
          <p:cNvPr id="1074" name="Text Box 5"/>
          <p:cNvSpPr/>
          <p:nvPr/>
        </p:nvSpPr>
        <p:spPr>
          <a:xfrm>
            <a:off x="1619280" y="1268280"/>
            <a:ext cx="525780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处暑不出头，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1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割谷喂老牛。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六月六，看谷秀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历六月初六，就到处可见齐腰深，秀出穗的谷子了，谷穗吐金后谷苗让农民们欣喜不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处暑不出头，割谷喂老牛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暑的时候，谷子如果还不出穗，就没收成的希望了，就像无用的荒草一样，只能割掉喂牛吃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" dur="500"/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10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10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4"/>
          <p:cNvSpPr/>
          <p:nvPr/>
        </p:nvSpPr>
        <p:spPr>
          <a:xfrm>
            <a:off x="250920" y="1341360"/>
            <a:ext cx="835344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 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读句子，说说你的体会。</a:t>
            </a: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   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        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农作物到了该长的时候不长，或是长得太慢，就没有收成的希望。人也是一样，要赶时候，赶热天，尽量地用力量地长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500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500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/>
          </p:nvPr>
        </p:nvSpPr>
        <p:spPr>
          <a:xfrm>
            <a:off x="0" y="603000"/>
            <a:ext cx="9144000" cy="61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道理：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也是一样，要赶时候，赶热天，尽量地用力量地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了这句话，你感受到了什么？明白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热天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指季节，而是指利于学习知识，利于成长的时间、环境等，主要指青少年时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仅仅指身体的成长，年龄的增长，体重的增加，还要看知识的积累，认识的提高，对时间的珍惜，对机遇的把握，努力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人生的夏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的是一个人的青少年时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句话告诉我们人一定要在青少年时期珍惜时间，积极争取知识、能力、经验的增长，不能错过时机，否则就会成为一事无成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5" dur="500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0" dur="500"/>
                                        <p:tgtEl>
                                          <p:spTgt spid="10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5" dur="500"/>
                                        <p:tgtEl>
                                          <p:spTgt spid="1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0" dur="500"/>
                                        <p:tgtEl>
                                          <p:spTgt spid="10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" dur="500"/>
                                        <p:tgtEl>
                                          <p:spTgt spid="10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" dur="500"/>
                                        <p:tgtEl>
                                          <p:spTgt spid="10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2" descr=""/>
          <p:cNvPicPr/>
          <p:nvPr/>
        </p:nvPicPr>
        <p:blipFill>
          <a:blip r:embed="rId1"/>
          <a:stretch/>
        </p:blipFill>
        <p:spPr>
          <a:xfrm>
            <a:off x="395280" y="789120"/>
            <a:ext cx="8486640" cy="5952960"/>
          </a:xfrm>
          <a:prstGeom prst="rect">
            <a:avLst/>
          </a:prstGeom>
          <a:ln w="0">
            <a:noFill/>
          </a:ln>
        </p:spPr>
      </p:pic>
      <p:sp>
        <p:nvSpPr>
          <p:cNvPr id="1022" name="TextBox 2"/>
          <p:cNvSpPr/>
          <p:nvPr/>
        </p:nvSpPr>
        <p:spPr>
          <a:xfrm>
            <a:off x="3286080" y="1211400"/>
            <a:ext cx="2714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夏天里的成长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2" descr="10271210"/>
          <p:cNvPicPr/>
          <p:nvPr/>
        </p:nvPicPr>
        <p:blipFill>
          <a:blip r:embed="rId1"/>
          <a:stretch/>
        </p:blipFill>
        <p:spPr>
          <a:xfrm>
            <a:off x="0" y="109692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1079" name="Text Box 3"/>
          <p:cNvSpPr/>
          <p:nvPr/>
        </p:nvSpPr>
        <p:spPr>
          <a:xfrm>
            <a:off x="1619280" y="2421000"/>
            <a:ext cx="61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少壮不努力，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老大徒伤悲。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AutoShape 4"/>
          <p:cNvSpPr/>
          <p:nvPr/>
        </p:nvSpPr>
        <p:spPr>
          <a:xfrm>
            <a:off x="0" y="979560"/>
            <a:ext cx="1873080" cy="1441440"/>
          </a:xfrm>
          <a:prstGeom prst="cloudCallout">
            <a:avLst>
              <a:gd name="adj1" fmla="val 50337"/>
              <a:gd name="adj2" fmla="val 55398"/>
            </a:avLst>
          </a:pr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1" name="Text Box 5"/>
          <p:cNvSpPr/>
          <p:nvPr/>
        </p:nvSpPr>
        <p:spPr>
          <a:xfrm>
            <a:off x="250920" y="11685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夏天的   发现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2" name="Text Box 6"/>
          <p:cNvSpPr/>
          <p:nvPr/>
        </p:nvSpPr>
        <p:spPr>
          <a:xfrm>
            <a:off x="2050920" y="256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夏天是美丽的，夏天是多彩的，夏天是万物生长最快的时期。让我们到大自然中里去感受夏天的美丽，并把看到的记录下来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Text Box 4"/>
          <p:cNvSpPr/>
          <p:nvPr/>
        </p:nvSpPr>
        <p:spPr>
          <a:xfrm>
            <a:off x="468360" y="62064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我把人们的活动照下来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84" name="Picture 6" descr="u=1584017091,3989627050&amp;fm=0&amp;gp=0"/>
          <p:cNvPicPr/>
          <p:nvPr/>
        </p:nvPicPr>
        <p:blipFill>
          <a:blip r:embed="rId1"/>
          <a:stretch/>
        </p:blipFill>
        <p:spPr>
          <a:xfrm>
            <a:off x="755640" y="1101600"/>
            <a:ext cx="3529080" cy="23194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7" descr="u=1029795512,4126036545&amp;fm=0&amp;gp=0"/>
          <p:cNvPicPr/>
          <p:nvPr/>
        </p:nvPicPr>
        <p:blipFill>
          <a:blip r:embed="rId2"/>
          <a:stretch/>
        </p:blipFill>
        <p:spPr>
          <a:xfrm>
            <a:off x="4356000" y="1041480"/>
            <a:ext cx="3311640" cy="24112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8" descr="u=2876484733,1796730004&amp;fm=0&amp;gp=0"/>
          <p:cNvPicPr/>
          <p:nvPr/>
        </p:nvPicPr>
        <p:blipFill>
          <a:blip r:embed="rId3"/>
          <a:stretch/>
        </p:blipFill>
        <p:spPr>
          <a:xfrm>
            <a:off x="755640" y="3500280"/>
            <a:ext cx="3456000" cy="26910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9" descr="u=4189430404,440998454&amp;fm=0&amp;gp=0"/>
          <p:cNvPicPr/>
          <p:nvPr/>
        </p:nvPicPr>
        <p:blipFill>
          <a:blip r:embed="rId4"/>
          <a:stretch/>
        </p:blipFill>
        <p:spPr>
          <a:xfrm>
            <a:off x="4211640" y="350028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 Box 4"/>
          <p:cNvSpPr/>
          <p:nvPr/>
        </p:nvSpPr>
        <p:spPr>
          <a:xfrm>
            <a:off x="1619280" y="549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夏天采集的标本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89" name="Picture 7" descr="u=46226906,572106301&amp;fm=15&amp;gp=0"/>
          <p:cNvPicPr/>
          <p:nvPr/>
        </p:nvPicPr>
        <p:blipFill>
          <a:blip r:embed="rId1"/>
          <a:stretch/>
        </p:blipFill>
        <p:spPr>
          <a:xfrm>
            <a:off x="1116000" y="1197000"/>
            <a:ext cx="1655640" cy="136044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8" descr="u=165479278,825626172&amp;fm=0&amp;gp=0"/>
          <p:cNvPicPr/>
          <p:nvPr/>
        </p:nvPicPr>
        <p:blipFill>
          <a:blip r:embed="rId2"/>
          <a:stretch/>
        </p:blipFill>
        <p:spPr>
          <a:xfrm>
            <a:off x="2987640" y="1197000"/>
            <a:ext cx="1871640" cy="144468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9" descr="u=972627818,3048834098&amp;fm=15&amp;gp=0"/>
          <p:cNvPicPr/>
          <p:nvPr/>
        </p:nvPicPr>
        <p:blipFill>
          <a:blip r:embed="rId3"/>
          <a:stretch/>
        </p:blipFill>
        <p:spPr>
          <a:xfrm>
            <a:off x="5148360" y="1268280"/>
            <a:ext cx="1800000" cy="13366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0" descr="u=2384016218,4190146814&amp;fm=15&amp;gp=0"/>
          <p:cNvPicPr/>
          <p:nvPr/>
        </p:nvPicPr>
        <p:blipFill>
          <a:blip r:embed="rId4"/>
          <a:stretch/>
        </p:blipFill>
        <p:spPr>
          <a:xfrm>
            <a:off x="1116000" y="3284640"/>
            <a:ext cx="1566720" cy="20890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1" descr="u=3948822969,2420246853&amp;fm=0&amp;gp=0"/>
          <p:cNvPicPr/>
          <p:nvPr/>
        </p:nvPicPr>
        <p:blipFill>
          <a:blip r:embed="rId5"/>
          <a:stretch/>
        </p:blipFill>
        <p:spPr>
          <a:xfrm>
            <a:off x="3059280" y="3573360"/>
            <a:ext cx="1944360" cy="12081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2" descr="u=4021127895,2267245909&amp;fm=0&amp;gp=0"/>
          <p:cNvPicPr/>
          <p:nvPr/>
        </p:nvPicPr>
        <p:blipFill>
          <a:blip r:embed="rId6"/>
          <a:stretch/>
        </p:blipFill>
        <p:spPr>
          <a:xfrm>
            <a:off x="5148360" y="3429000"/>
            <a:ext cx="2232000" cy="15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</a:rPr>
              <a:t>我把美丽的景色画下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Picture 4" descr="u=2490699826,21036253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413000"/>
            <a:ext cx="3095640" cy="216684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5" descr="u=598167407,3220381850&amp;fm=0&amp;gp=0"/>
          <p:cNvPicPr/>
          <p:nvPr/>
        </p:nvPicPr>
        <p:blipFill>
          <a:blip r:embed="rId3"/>
          <a:stretch/>
        </p:blipFill>
        <p:spPr>
          <a:xfrm>
            <a:off x="3924360" y="1413000"/>
            <a:ext cx="3311640" cy="24764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6" descr="u=3548604796,3415810810&amp;fm=0&amp;gp=0"/>
          <p:cNvPicPr/>
          <p:nvPr/>
        </p:nvPicPr>
        <p:blipFill>
          <a:blip r:embed="rId4"/>
          <a:stretch/>
        </p:blipFill>
        <p:spPr>
          <a:xfrm>
            <a:off x="611280" y="393372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7" descr="u=3230424239,4182016299&amp;fm=15&amp;gp=0"/>
          <p:cNvPicPr/>
          <p:nvPr/>
        </p:nvPicPr>
        <p:blipFill>
          <a:blip r:embed="rId5"/>
          <a:stretch/>
        </p:blipFill>
        <p:spPr>
          <a:xfrm>
            <a:off x="3924360" y="4005360"/>
            <a:ext cx="3311640" cy="227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900000" y="682560"/>
            <a:ext cx="7183440" cy="56991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971640" y="6319800"/>
            <a:ext cx="720252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2" descr=""/>
          <p:cNvPicPr/>
          <p:nvPr/>
        </p:nvPicPr>
        <p:blipFill>
          <a:blip r:embed="rId1"/>
          <a:stretch/>
        </p:blipFill>
        <p:spPr>
          <a:xfrm>
            <a:off x="0" y="766800"/>
            <a:ext cx="9147240" cy="53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4"/>
          <p:cNvSpPr/>
          <p:nvPr/>
        </p:nvSpPr>
        <p:spPr>
          <a:xfrm>
            <a:off x="1042920" y="521532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菜畦：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指菜地，有土埂围着的一块块排列整齐的种蔬菜的田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27" name="Picture 6" descr="3a072682100662ea6d8119ea"/>
          <p:cNvPicPr/>
          <p:nvPr/>
        </p:nvPicPr>
        <p:blipFill>
          <a:blip r:embed="rId1"/>
          <a:srcRect l="0" t="0" r="-4" b="17"/>
          <a:stretch/>
        </p:blipFill>
        <p:spPr>
          <a:xfrm>
            <a:off x="539640" y="765000"/>
            <a:ext cx="8172720" cy="433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4"/>
          <p:cNvGrpSpPr/>
          <p:nvPr/>
        </p:nvGrpSpPr>
        <p:grpSpPr>
          <a:xfrm>
            <a:off x="-102600" y="-291240"/>
            <a:ext cx="5446800" cy="3551760"/>
            <a:chOff x="-102600" y="-291240"/>
            <a:chExt cx="5446800" cy="3551760"/>
          </a:xfrm>
        </p:grpSpPr>
        <p:sp>
          <p:nvSpPr>
            <p:cNvPr id="1029" name="Cloud"/>
            <p:cNvSpPr/>
            <p:nvPr/>
          </p:nvSpPr>
          <p:spPr>
            <a:xfrm flipV="1" rot="19990200">
              <a:off x="0" y="692280"/>
              <a:ext cx="4736520" cy="1584720"/>
            </a:xfrm>
            <a:custGeom>
              <a:avLst/>
              <a:gdLst/>
              <a:ahLst/>
              <a:rect l="l" t="t" r="r" b="b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0" name="Text Box 6"/>
            <p:cNvSpPr/>
            <p:nvPr/>
          </p:nvSpPr>
          <p:spPr>
            <a:xfrm rot="19900800">
              <a:off x="691560" y="816480"/>
              <a:ext cx="477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3399ff"/>
                  </a:solidFill>
                  <a:uFillTx/>
                  <a:latin typeface="隶书"/>
                  <a:ea typeface="隶书"/>
                </a:rPr>
                <a:t>读一读，写一写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31" name="Text Box 7"/>
          <p:cNvSpPr/>
          <p:nvPr/>
        </p:nvSpPr>
        <p:spPr>
          <a:xfrm>
            <a:off x="395280" y="2924280"/>
            <a:ext cx="874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入乡随俗  增加  威风  收割  昨天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威信扫地  希望  轨道  秧苗  填空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Text Box 6"/>
          <p:cNvSpPr/>
          <p:nvPr/>
        </p:nvSpPr>
        <p:spPr>
          <a:xfrm>
            <a:off x="1763640" y="54936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033" name="Group 7"/>
          <p:cNvGrpSpPr/>
          <p:nvPr/>
        </p:nvGrpSpPr>
        <p:grpSpPr>
          <a:xfrm>
            <a:off x="114120" y="185040"/>
            <a:ext cx="3202560" cy="2744280"/>
            <a:chOff x="114120" y="185040"/>
            <a:chExt cx="3202560" cy="2744280"/>
          </a:xfrm>
        </p:grpSpPr>
        <p:sp>
          <p:nvSpPr>
            <p:cNvPr id="1034" name="Cloud"/>
            <p:cNvSpPr/>
            <p:nvPr/>
          </p:nvSpPr>
          <p:spPr>
            <a:xfrm flipV="1" rot="19990200">
              <a:off x="360000" y="694080"/>
              <a:ext cx="2663640" cy="1726560"/>
            </a:xfrm>
            <a:custGeom>
              <a:avLst/>
              <a:gdLst/>
              <a:ahLst/>
              <a:rect l="l" t="t" r="r" b="b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35" name="Text Box 9"/>
            <p:cNvSpPr/>
            <p:nvPr/>
          </p:nvSpPr>
          <p:spPr>
            <a:xfrm rot="19664400">
              <a:off x="612000" y="825480"/>
              <a:ext cx="2665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5400" spc="-1" strike="noStrike" u="sng">
                  <a:solidFill>
                    <a:srgbClr val="6600ff"/>
                  </a:solidFill>
                  <a:uFillTx/>
                  <a:latin typeface="隶书"/>
                  <a:ea typeface="隶书"/>
                </a:rPr>
                <a:t>精 读</a:t>
              </a:r>
              <a:endParaRPr b="0" i="1" lang="en-US" sz="5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36" name="Text Box 10"/>
          <p:cNvSpPr/>
          <p:nvPr/>
        </p:nvSpPr>
        <p:spPr>
          <a:xfrm>
            <a:off x="1979640" y="2997360"/>
            <a:ext cx="62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1332000" y="2349360"/>
            <a:ext cx="691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、再读课文，思考：全文是围绕那一句话来写的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、细读课文，围绕这一中心句，作者从那几个方面来阐述夏天是万物长大的时期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/>
          </p:nvPr>
        </p:nvSpPr>
        <p:spPr>
          <a:xfrm>
            <a:off x="899640" y="836280"/>
            <a:ext cx="7355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有生命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植物：绿蔓  竹子  高粱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苞蕾（鲜花  果实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苔藓  草坪  菜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物：小猫 小狗 小鸡 小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/>
          </p:nvPr>
        </p:nvSpPr>
        <p:spPr>
          <a:xfrm>
            <a:off x="1692000" y="98100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生命的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水（山  地  河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铁轨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5:42:43Z</dcterms:created>
  <dc:creator/>
  <dc:description/>
  <dc:language>en-US</dc:language>
  <cp:lastModifiedBy>万润仪器贸易公司</cp:lastModifiedBy>
  <dcterms:modified xsi:type="dcterms:W3CDTF">2020-08-24T08:45:3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